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1B128-BD5E-4EAD-A24A-81FC90099C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4EEED-C476-4F55-B1AA-1843F8349B7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33943-68D6-4613-9EA7-C7E08A594D4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1D63A-84C2-4728-A339-828C329293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63B07-9054-48D3-80D2-6728577430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3C944-D360-4A5A-BC76-A5A23906436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43AD7-EECF-4CE1-AA27-22752CC96D9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BDD0F-3299-4EE3-BD4E-9E202951C1A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A87BB-823C-47F4-A705-6F6978B3C50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02AD7-78F3-48F8-A7D2-39D3B21FB96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8FAD9-7E81-46EB-A48E-BADE9063750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4207-83DB-4873-90D9-624F01962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90F1-554A-4053-8465-CE0E90C59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DAC3-26E1-4022-86FE-29E6E3ED0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E4A7-BEA7-43D9-B18A-51B2446A7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42F5-72D8-464F-9F8E-1854B274B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E3AA-7E60-4C32-9A7B-C50F5207A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ABCA-3136-4C99-A86F-8A36382E0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EC64-A146-47BD-9273-8C7587527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2326-9C5A-4B93-BC65-154FD931E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C55B-11C4-446D-B24D-775517E1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C302-6E7B-472B-A89C-48D13AB4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C147-7298-48A1-81FE-E526E16C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94112-8F89-41E3-B1EE-49E4A1C91D8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8" descr="aaa.gif"/>
          <p:cNvPicPr/>
          <p:nvPr/>
        </p:nvPicPr>
        <p:blipFill>
          <a:blip r:embed="rId1"/>
          <a:stretch/>
        </p:blipFill>
        <p:spPr>
          <a:xfrm>
            <a:off x="533520" y="685800"/>
            <a:ext cx="4381560" cy="6172200"/>
          </a:xfrm>
          <a:prstGeom prst="rect">
            <a:avLst/>
          </a:prstGeom>
          <a:ln w="0">
            <a:noFill/>
          </a:ln>
        </p:spPr>
      </p:pic>
      <p:sp>
        <p:nvSpPr>
          <p:cNvPr id="49" name="TextBox 9"/>
          <p:cNvSpPr/>
          <p:nvPr/>
        </p:nvSpPr>
        <p:spPr>
          <a:xfrm>
            <a:off x="4643280" y="1357200"/>
            <a:ext cx="571500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7030a0"/>
                </a:solidFill>
                <a:latin typeface="Sylfaen"/>
              </a:rPr>
              <a:t>Aesop 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2060"/>
                </a:solidFill>
                <a:latin typeface="Sylfaen"/>
              </a:rPr>
              <a:t>and his Fabl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TextBox 10"/>
          <p:cNvSpPr/>
          <p:nvPr/>
        </p:nvSpPr>
        <p:spPr>
          <a:xfrm>
            <a:off x="6339600" y="6248520"/>
            <a:ext cx="24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Arial"/>
                <a:ea typeface="Arial"/>
              </a:rPr>
              <a:t>Modified by Mrs. Re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3"/>
          <p:cNvSpPr/>
          <p:nvPr/>
        </p:nvSpPr>
        <p:spPr>
          <a:xfrm>
            <a:off x="428760" y="1571760"/>
            <a:ext cx="435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571680" y="1571760"/>
            <a:ext cx="4214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Quick as a flash, the fox jumped on the goat’s back and leaped out of well. He left the goat stuck in the well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TextBox 6"/>
          <p:cNvSpPr/>
          <p:nvPr/>
        </p:nvSpPr>
        <p:spPr>
          <a:xfrm>
            <a:off x="353160" y="785880"/>
            <a:ext cx="526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030a0"/>
                </a:solidFill>
                <a:latin typeface="Sylfaen"/>
              </a:rPr>
              <a:t>The Fox and the Go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" name="Picture 1030" descr="F:\Greece PowerPoint\greece page 14c art.gif"/>
          <p:cNvPicPr/>
          <p:nvPr/>
        </p:nvPicPr>
        <p:blipFill>
          <a:blip r:embed="rId1"/>
          <a:stretch/>
        </p:blipFill>
        <p:spPr>
          <a:xfrm>
            <a:off x="4876920" y="1676520"/>
            <a:ext cx="4000320" cy="4238640"/>
          </a:xfrm>
          <a:prstGeom prst="rect">
            <a:avLst/>
          </a:prstGeom>
          <a:ln w="0">
            <a:noFill/>
          </a:ln>
        </p:spPr>
      </p:pic>
      <p:sp>
        <p:nvSpPr>
          <p:cNvPr id="83" name="TextBox 5"/>
          <p:cNvSpPr/>
          <p:nvPr/>
        </p:nvSpPr>
        <p:spPr>
          <a:xfrm>
            <a:off x="571680" y="4071960"/>
            <a:ext cx="4143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The Moral of This Stor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pple Casual"/>
                <a:ea typeface="Arial"/>
              </a:rPr>
              <a:t>Don’t always believe what you hear from someone in troub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Parts of an Aesop-type Fable: 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aaa.gif"/>
          <p:cNvPicPr/>
          <p:nvPr/>
        </p:nvPicPr>
        <p:blipFill>
          <a:blip r:embed="rId1"/>
          <a:stretch/>
        </p:blipFill>
        <p:spPr>
          <a:xfrm>
            <a:off x="4343400" y="380880"/>
            <a:ext cx="4381560" cy="6172200"/>
          </a:xfrm>
          <a:prstGeom prst="rect">
            <a:avLst/>
          </a:prstGeom>
          <a:ln w="0">
            <a:noFill/>
          </a:ln>
        </p:spPr>
      </p:pic>
      <p:sp>
        <p:nvSpPr>
          <p:cNvPr id="86" name="TextBox 6"/>
          <p:cNvSpPr/>
          <p:nvPr/>
        </p:nvSpPr>
        <p:spPr>
          <a:xfrm>
            <a:off x="1096920" y="1000080"/>
            <a:ext cx="364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030a0"/>
                </a:solidFill>
                <a:latin typeface="Sylfaen"/>
              </a:rPr>
              <a:t>Aesop’s Fabl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1285920" y="2071800"/>
            <a:ext cx="3143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Click here to read, watch and listen to more of Aesop’s Fables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2071800" y="5286240"/>
            <a:ext cx="507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030a0"/>
                </a:solidFill>
                <a:latin typeface="Arial"/>
              </a:rPr>
              <a:t>PPPST.COM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2" descr="BANNER 2"/>
          <p:cNvPicPr/>
          <p:nvPr/>
        </p:nvPicPr>
        <p:blipFill>
          <a:blip r:embed="rId1"/>
          <a:stretch/>
        </p:blipFill>
        <p:spPr>
          <a:xfrm>
            <a:off x="1790640" y="1771560"/>
            <a:ext cx="5562720" cy="3313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4"/>
          <p:cNvSpPr/>
          <p:nvPr/>
        </p:nvSpPr>
        <p:spPr>
          <a:xfrm>
            <a:off x="928800" y="500040"/>
            <a:ext cx="471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This presentation  brought to you by 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990720" y="60958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riginal provided by: </a:t>
            </a:r>
            <a:r>
              <a:rPr b="0" lang="en-GB" sz="1800" spc="-1" strike="noStrike">
                <a:solidFill>
                  <a:srgbClr val="002060"/>
                </a:solidFill>
                <a:latin typeface="Arial"/>
                <a:ea typeface="Arial"/>
              </a:rPr>
              <a:t>Lin Donn and Phillip Marti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457200" y="1143000"/>
            <a:ext cx="4357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Aesop is known as an ancient  storyteller from Greece who might have lived around 550 BCE. If he existed, he was a slave, believed to be from Ethiopia. At a young age, he was sold the slave trade in Greece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If he existed, he did not leave behind a book of his fables. He is known to have memorized and recited his stories, otherwise known as </a:t>
            </a:r>
            <a:r>
              <a:rPr b="0" i="1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oral tradition!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" name="Picture 8" descr="greece page 7 art"/>
          <p:cNvPicPr/>
          <p:nvPr/>
        </p:nvPicPr>
        <p:blipFill>
          <a:blip r:embed="rId1"/>
          <a:stretch/>
        </p:blipFill>
        <p:spPr>
          <a:xfrm>
            <a:off x="4876920" y="1523880"/>
            <a:ext cx="4038480" cy="3276720"/>
          </a:xfrm>
          <a:prstGeom prst="rect">
            <a:avLst/>
          </a:prstGeom>
          <a:ln w="0">
            <a:noFill/>
          </a:ln>
        </p:spPr>
      </p:pic>
      <p:sp>
        <p:nvSpPr>
          <p:cNvPr id="53" name="TextBox 5"/>
          <p:cNvSpPr/>
          <p:nvPr/>
        </p:nvSpPr>
        <p:spPr>
          <a:xfrm>
            <a:off x="533520" y="380880"/>
            <a:ext cx="3357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030a0"/>
                </a:solidFill>
                <a:latin typeface="Sylfaen"/>
              </a:rPr>
              <a:t>Aesop’s Fabl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5486400" y="5029200"/>
            <a:ext cx="28432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5481"/>
                </a:solidFill>
                <a:latin typeface="Tahoma"/>
              </a:rPr>
              <a:t>Critical Thinking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481"/>
                </a:solidFill>
                <a:latin typeface="Apple Casual"/>
                <a:ea typeface="Apple Casual"/>
              </a:rPr>
              <a:t>Why do you think most books and sources fail to tell us Aesop’s correct race and skin color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What is a fable….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pic>
        <p:nvPicPr>
          <p:cNvPr id="56" name="Diagram 5" descr=""/>
          <p:cNvPicPr/>
          <p:nvPr/>
        </p:nvPicPr>
        <p:blipFill>
          <a:blip r:embed="rId1"/>
          <a:stretch/>
        </p:blipFill>
        <p:spPr>
          <a:xfrm>
            <a:off x="450720" y="1517760"/>
            <a:ext cx="816300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A Brief Fable History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pic>
        <p:nvPicPr>
          <p:cNvPr id="58" name="Diagram 3" descr=""/>
          <p:cNvPicPr/>
          <p:nvPr/>
        </p:nvPicPr>
        <p:blipFill>
          <a:blip r:embed="rId1"/>
          <a:stretch/>
        </p:blipFill>
        <p:spPr>
          <a:xfrm>
            <a:off x="182520" y="1268280"/>
            <a:ext cx="9004320" cy="56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571680" y="1500120"/>
            <a:ext cx="43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" name="Picture 8" descr="greece page 7 art"/>
          <p:cNvPicPr/>
          <p:nvPr/>
        </p:nvPicPr>
        <p:blipFill>
          <a:blip r:embed="rId1"/>
          <a:stretch/>
        </p:blipFill>
        <p:spPr>
          <a:xfrm>
            <a:off x="2552760" y="1000080"/>
            <a:ext cx="4038480" cy="3276720"/>
          </a:xfrm>
          <a:prstGeom prst="rect">
            <a:avLst/>
          </a:prstGeom>
          <a:ln w="0">
            <a:noFill/>
          </a:ln>
        </p:spPr>
      </p:pic>
      <p:sp>
        <p:nvSpPr>
          <p:cNvPr id="61" name="TextBox 4"/>
          <p:cNvSpPr/>
          <p:nvPr/>
        </p:nvSpPr>
        <p:spPr>
          <a:xfrm>
            <a:off x="571680" y="4429080"/>
            <a:ext cx="7929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Legend says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 … Aesop’s Roman master, Iadmon, was so delighted with Aesop’s fables that he granted Aesop his freedom!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571680" y="714240"/>
            <a:ext cx="3357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030a0"/>
                </a:solidFill>
                <a:latin typeface="Sylfaen"/>
              </a:rPr>
              <a:t>Aesop’s Fabl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571680" y="1500120"/>
            <a:ext cx="4076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There are no records to prove that Aesop ever wrote anything down.  Fortunately, after his death, people did write down every fable they could remember. A few of these authors are Phaedrus (1</a:t>
            </a:r>
            <a:r>
              <a:rPr b="0" lang="en-US" sz="2000" spc="-1" strike="noStrike" baseline="30000">
                <a:solidFill>
                  <a:srgbClr val="002060"/>
                </a:solidFill>
                <a:latin typeface="Arial"/>
                <a:ea typeface="Arial"/>
              </a:rPr>
              <a:t>st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 Century CE) and Babrius (2</a:t>
            </a:r>
            <a:r>
              <a:rPr b="0" lang="en-US" sz="2000" spc="-1" strike="noStrike" baseline="30000">
                <a:solidFill>
                  <a:srgbClr val="002060"/>
                </a:solidFill>
                <a:latin typeface="Arial"/>
                <a:ea typeface="Arial"/>
              </a:rPr>
              <a:t>nd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 century CE) 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571680" y="4857840"/>
            <a:ext cx="7929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Over the centuries, Aesop's fables have been rewritten and illustrated and translated into nearly every language in the worl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TextBox 5"/>
          <p:cNvSpPr/>
          <p:nvPr/>
        </p:nvSpPr>
        <p:spPr>
          <a:xfrm>
            <a:off x="571680" y="714240"/>
            <a:ext cx="3357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030a0"/>
                </a:solidFill>
                <a:latin typeface="Sylfaen"/>
              </a:rPr>
              <a:t>Aesop’s Fabl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" name="Picture 6" descr="aaa.gif"/>
          <p:cNvPicPr/>
          <p:nvPr/>
        </p:nvPicPr>
        <p:blipFill>
          <a:blip r:embed="rId1"/>
          <a:stretch/>
        </p:blipFill>
        <p:spPr>
          <a:xfrm>
            <a:off x="4500720" y="357120"/>
            <a:ext cx="4071960" cy="46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4071960" y="1822320"/>
            <a:ext cx="5000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Today, we still enjoy these wonderful stories created over 2,500 years ago!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Each is a very short story, and each has a moral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000760" y="4714920"/>
            <a:ext cx="357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Like this one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571680" y="714240"/>
            <a:ext cx="3357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030a0"/>
                </a:solidFill>
                <a:latin typeface="Sylfaen"/>
              </a:rPr>
              <a:t>Aesop’s Fabl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0" name="Picture 7" descr="aaa.gif"/>
          <p:cNvPicPr/>
          <p:nvPr/>
        </p:nvPicPr>
        <p:blipFill>
          <a:blip r:embed="rId1"/>
          <a:stretch/>
        </p:blipFill>
        <p:spPr>
          <a:xfrm>
            <a:off x="214200" y="1571760"/>
            <a:ext cx="464364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428760" y="1643040"/>
            <a:ext cx="435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2" name="Picture 7" descr="F:\Greece PowerPoint\greece page 14b art.gif"/>
          <p:cNvPicPr/>
          <p:nvPr/>
        </p:nvPicPr>
        <p:blipFill>
          <a:blip r:embed="rId1"/>
          <a:stretch/>
        </p:blipFill>
        <p:spPr>
          <a:xfrm>
            <a:off x="4876920" y="1676520"/>
            <a:ext cx="4038480" cy="427824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4"/>
          <p:cNvSpPr/>
          <p:nvPr/>
        </p:nvSpPr>
        <p:spPr>
          <a:xfrm>
            <a:off x="571680" y="1714680"/>
            <a:ext cx="40003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One day, a fox fell down a well. He tried to climb out, but the well was too deep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A goat wandered by. He peered down curiously.  “What are you doing in a well?” asked the goa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353160" y="785880"/>
            <a:ext cx="526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030a0"/>
                </a:solidFill>
                <a:latin typeface="Sylfaen"/>
              </a:rPr>
              <a:t>The Fox and the Go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428760" y="1643040"/>
            <a:ext cx="435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571680" y="1714680"/>
            <a:ext cx="4000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“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I’m warning you, goat,” snarled the fox. “This is </a:t>
            </a:r>
            <a:r>
              <a:rPr b="1" i="1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my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 water! Go away.”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“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You can’t keep all the water for yourself,” the goat snorted. The goat jumped in the well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353160" y="785880"/>
            <a:ext cx="526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030a0"/>
                </a:solidFill>
                <a:latin typeface="Sylfaen"/>
              </a:rPr>
              <a:t>The Fox and the Go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" name="Picture 7" descr="F:\Greece PowerPoint\greece page 14b art.gif"/>
          <p:cNvPicPr/>
          <p:nvPr/>
        </p:nvPicPr>
        <p:blipFill>
          <a:blip r:embed="rId1"/>
          <a:stretch/>
        </p:blipFill>
        <p:spPr>
          <a:xfrm>
            <a:off x="4876920" y="1676520"/>
            <a:ext cx="4038480" cy="42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19:48:28Z</dcterms:created>
  <dc:creator>Lin Donn</dc:creator>
  <dc:description>Illustrated by Phillip Martin</dc:description>
  <dc:language>en-US</dc:language>
  <cp:lastModifiedBy>sarah baird</cp:lastModifiedBy>
  <dcterms:modified xsi:type="dcterms:W3CDTF">2010-02-05T21:51:53Z</dcterms:modified>
  <cp:revision>92</cp:revision>
  <dc:subject/>
  <dc:title>Aesop and His Fables</dc:title>
</cp:coreProperties>
</file>